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F0BE-9500-4E07-8EE2-DB6F4205E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D6A5-C5AC-4838-B9B7-9DE18644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A57C-9B4A-48E8-A02E-AE875933A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E0B9-EA70-4883-A61B-0595CC06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2178-33B7-490C-9779-E35C79EE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243B-9988-4066-BDC4-EBA9F42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9DEFD-B03F-42A1-8A5B-30595767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395A-D69C-4EA0-9658-5517CD387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AF739-8BC0-44FD-A64C-340FCEC48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0420E-7C62-4120-9239-7DA29F74B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6D02-C6CF-468D-B570-4CC2D8FCF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B508-7693-49D8-AF6E-39774F47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40CF-5C01-4DA4-8BBC-24EDF6C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CA93D-D098-4649-9BCB-D3FEEC3F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2421-8EA9-4D68-BAA3-9998F2DE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F26A-BD61-4019-8C44-36417D6D2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7C2C-F45D-4FFE-9753-B376EADBF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72DF-DCC0-4317-9E05-B502EA1EC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4516-E4C7-414D-A2E9-A0F668A5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4876-481B-4905-A2A5-0016AE374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0656-62B3-4987-AEA2-C96B909A6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E226-CE73-478D-8103-F3FB9ABD9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FD42-3FF2-4D44-B7BA-D0F03A53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C32D-316F-441E-835E-9B52A0AC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6AA7-3F3E-4F3F-8F36-4E84557E35B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F3CD-204C-46FD-8013-E31A1DAEBB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meracy with Peter Humphrey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experience on a post-it along with your name and school and 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ggested possible groupings at Level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teracy 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hoto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ry 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ux Gle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a Mor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ne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Point aud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Mary Bu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ulie Everstey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e Marsh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aux Gle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ma Morr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lene Walk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3T03:21:35Z</dcterms:modified>
  <cp:revision>56</cp:revision>
  <dc:subject/>
  <dc:title>Enhancing literacy and numeracy outcomes through eLearning</dc:title>
</cp:coreProperties>
</file>